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5E8-3186-4617-AA81-B5DD7FF0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58E-9CF4-4137-8352-0AD8814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7DB-430F-476E-BBD2-72C1ACC4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8B0-B5FA-4E36-B9AB-1322EE20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B7-BF4D-41D2-9276-D1BF53E7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DBF-7265-452F-BF27-9268AE4E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D6D-F98E-458A-AA0B-FD9A23DE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BE4-E2B2-4CD0-A8FA-3CC95A9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A2D-4FBF-4D02-BA5D-51E5B0A4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1C9-702F-43FE-893D-F1C46F0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761-F4BD-4736-9897-C17DD8E6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58D-994C-46D3-AF61-877CBB13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E24-B6D0-4251-A4C5-20FEACA88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cob Wink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farm4.static.flickr.com/3500/3234068659_b21cbe0dd4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155520" y="-1508040"/>
            <a:ext cx="495288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://www.frontdoor.biz/theolsons/Jack/JaxFaith/Heraclitus/philo.gif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0" y="1752480"/>
            <a:ext cx="883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457200" y="6858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historyforkids.org/learn/china/history/pictures/lixian771.jpg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www.theodora.com/wfb/photos/greece/harbor_mykonos_greece_photo_gnto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www.wallpaperlounge.eu/data/media/920/The_Parthenon_Acropolis_Athens_Greece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traveljournals.net/pictures/l/13/138064-agora-at-sunset-athens-greece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farm4.static.flickr.com/3164/5780897409_b8ca992b70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crethiplethi.com/wp-content/uploads/chryssss_9072152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farm1.staticflickr.com/167/399822343_f27e6c72d2_z.jpg?zz=1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greece.mrdonn.org/athens1.gif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 in a court of la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euromediaawards.eu/wp-content/uploads/2011/09/Jury_alle1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westerlund10.wikis.birmingham.k12.mi.us/file/view/monarchy.gif/210820518/monarchy.gif"/>
          <p:cNvPicPr/>
          <p:nvPr/>
        </p:nvPicPr>
        <p:blipFill>
          <a:blip r:embed="rId1"/>
          <a:stretch/>
        </p:blipFill>
        <p:spPr>
          <a:xfrm>
            <a:off x="0" y="2496960"/>
            <a:ext cx="91440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8:47Z</dcterms:modified>
  <cp:revision>102</cp:revision>
  <dc:subject/>
  <dc:title>Ancient Greece</dc:title>
</cp:coreProperties>
</file>